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CF8-30B3-4E84-B482-5F6F82B3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B969-EBCB-4A98-B843-8A2A784D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ABC3C-49D1-4919-B80F-C467621E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2FFA3-13D2-4A30-BE24-45268AEF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0A246-F7F6-429D-B758-2C218356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79FCD-5B23-44E3-8515-59F5ECCC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DCD61-DDE2-45DC-B986-B6154F15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5FE45-9444-4677-BD1B-F772C5A0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11840-4DF2-4415-9EEF-06B33F96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59FD4-7EDE-4864-8A6A-4EB0771E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96E47-4648-445B-B3AC-7DF91680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250E6-BAD7-4E00-AA6E-BB7B3F43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D1BE-C41F-4D73-AE39-C7C93C47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8A0FD-D12D-4461-8E4C-603003D3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505BE-5A26-4707-A470-50A989E2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B11D8-9811-468C-A5FC-F102AF4C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1D007-D7F1-4C30-9483-2302A0D0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76A06-7600-46ED-A711-6F4BFD1F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EC7F5-909F-49CC-92C2-E2E49627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A4DC8-0649-485C-A854-28C70C4C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1986C-B4FC-48F5-BF37-DD4A8905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B757F-4BEA-4921-9FCC-16D74956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82ABC-0D4E-42FE-B155-7FF9EC8A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5CB1-6D51-4F13-B228-ADAC265F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1BCB3-7C70-4035-9D13-0E474A7B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28D84-F700-4AA6-A15C-19F09D58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188B3-D08F-4164-BECF-5A0F0294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C149B-B28A-4AFA-AE29-85CA14AA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9BD1F-C008-4223-992F-974F331C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C1581-0F58-4651-AE3E-735F64B4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10D1C-4B1F-47FB-9BC2-042A34DD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0B9D5-3967-4CBD-ADC8-C462F1A4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3FC85-160E-4E13-BC67-EEFEC2F4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CF732-E90E-44B4-A3F5-F6BF737B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7911-60A9-409F-8E73-A2D59989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D21FC-EDCC-4F06-A264-05E1DD92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8781A-1BA1-46F6-94EF-2FC3F9CA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46DE3-2D3E-4FEB-BEB9-5D55AEC4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6FB69-ACA9-42DC-AC8B-D358362F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7DED7-01EA-49CA-8667-BE5C171D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C21B9-E705-4BE1-B8B8-4921A1EB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08629-09FA-4B28-B83C-B969925D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AA65D-1BC5-49FD-9379-7619DF76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C4765-0A97-4545-AAB6-ADC05022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2ACF4-CC92-4FFC-A3B3-749F8281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17E3-A490-4B1E-B5F9-F1A5E3A6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0305E-8073-4648-80F2-8FA0093F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18BE4-03FC-406C-85A5-D89286F5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5DB0E-076D-4F91-B309-5912651B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ABFA2-CC3F-4F22-80D3-E4EEDF04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41BE2-B38F-49FF-845E-144A5AB3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83E90-6EDC-44CC-8EA6-9E8E0249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5FC16-0EFF-4573-B6CA-FC3B051A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FDBA7-3D7F-4E82-9891-228B6313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3B09DE-07FC-40C7-85E7-9307DB7D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0312D-F165-4E1A-8469-124B2CBB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2DE1-5422-4C95-9201-569DA409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00417A-656E-4FB3-95C9-FDE3F337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B6904-0860-4729-B00F-6D5C7C20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0E19C-7361-46C6-900E-B101086C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1C9A1-C34B-48F7-85C3-8FF66127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613FD-AA18-419E-A208-C6C16CA3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27B9F3-1DD6-4C3E-8B6F-E5233787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65C24-A9CA-4291-A6F2-1C69DF17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174A98-6D03-4016-BF1E-4A74089B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8B8759-4FD7-41CB-9A5E-FAD54DA6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CD80D5-DD28-4B1F-A654-246BC192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28BF-6CDB-4904-94FE-8168D40A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BEE7D8-E649-42FE-8306-9D386375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7F376-E161-452C-94EF-955FAD09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3DDAF9-B142-4079-BE80-69BA3742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C23BE1-E839-40C5-92A1-4048A1C5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5D612F-C166-42DA-82A0-B7815FF7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F14C5D-9753-4B61-A073-332BD3FC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90E37E-4D8F-4AEA-9470-A878A043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75E185-75DD-4179-B97D-ED5B5722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A0CCD9-31E0-4E6B-A11C-1171FF7A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DEA2B6-0F3B-44F2-9DF4-13F083BA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106F-7399-4D34-8700-B3EAFC0A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F677AB-1B70-4311-86C3-8EB092AF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9F941E-4308-4268-99F2-8F9A73B5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743045-D3F2-46F8-8845-195C2AB0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42280B-BFD9-41A3-BCBE-9A28B0CB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B2F35-62AA-43E5-BA06-0FD79946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2916BF-E3C4-4B06-96DF-4918AFF1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CE89E1-BE31-4CBB-832A-43BB869B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EBEB33-6587-47D7-B67D-355BA32C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E4757F-46FD-4E35-B710-F06C040F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326242-B2C4-4EF8-81D0-9A60E09D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0466-D407-423C-A18F-119BC95E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4B23D8-3071-4CE2-BA64-BDA227A0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B098CB-6B35-45E7-B5A5-ADB3A2D3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8C0699-242A-44E6-9F47-26D5C64A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99094A-B534-4B22-A36D-C47C982E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45C443-FA30-42EA-B247-E29DCD4D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E21813-C97C-4071-901B-BF03C4C8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BFC43C-27C5-497E-9E37-29B18CF7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112971-5CA8-4A01-8C55-71D1F7FE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2DEC4B-CB8D-4096-A0B4-19108ABF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A9CDF5-F038-4F0F-A37E-BBF859FB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C588-75C1-40F7-9F78-91A96A6E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481DB8-0A9C-48A4-BA5E-123BC2FB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09F79C-7447-40EE-8DD5-0D146479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B7F1ED-A09C-48C1-96DF-A9C08E7C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DA66EA-037F-4783-922A-73DB07FA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5D8DC2-E219-416D-B3A3-3B4C8C46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011945-4B15-4B1C-8FAF-30190577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404DFC-99B2-43D4-8C2C-CBDBD6EF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6CF757-3130-4358-8607-DD8758DB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9DBE1D-90D7-4373-B5D8-040E9C2F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32C635-14D1-44DC-A719-AC0DF704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1A11-E75C-4E9F-960A-36331AC1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7579-1BC6-411F-8C8D-D4137E08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6455D1-FD0A-45BC-8424-CB0B8D6E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A29BAC-E4AC-4381-B084-A165BBB5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07F996-C1FC-41F2-836D-FCCFA83E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855EE6-49AF-41C7-BBB5-8AB0ED70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312850-6EEB-405D-8543-136E000F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91AF87-67E6-4A24-AFA7-63B2D242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B18325-32F6-4F00-9C55-8648FF83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A401C8-3B9E-4D04-A552-2980343D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D2960F-8FAD-42F5-84E5-8BD11385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91D417-0AD9-48BC-A3F7-4F32EBB0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C8C4-128A-482E-82D0-8B57143D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1761C4-7695-4477-8BD7-55F427F0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EA2935-90CB-480B-8BC7-B3E2C9BF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4369A8-7321-44C2-813F-B010535B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83E048-FBD7-4CF0-AC5A-A0F63EC1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CBBF15-BB04-4E6C-931D-820284C2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043295-EB9A-4922-9CBA-6ED50BE2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F16F09-1425-40E0-9025-16ECAC6C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B4A70B-10FD-46F6-A39D-3B91FC3F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066CDB-8F81-4CEF-9DFC-E53CE934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B9F412-1DF1-4157-A175-DD945E70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C275-223A-4821-985C-5CA01561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7E89A9-E7DD-4BE1-9639-DBF1BDDE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D9980C-1FBD-44D4-BABB-56D2AA2F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CE1BF9-CB92-40B8-902C-41E370BE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497B50-153A-43CE-A370-DF9022C9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657140-42F4-47D5-AB1C-6BC6BF2F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45DB60-18F8-4489-9738-170C8AE5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F03DA7-81A3-4F41-822B-6D2CD61D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E252FF-310D-420E-91AC-69040EEC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BE773B-C537-483D-A749-96B424D5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772C64-8E73-4C7B-B314-2DAF58DC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12E6-C918-4306-871F-0DD38FFD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649B1C-C9E0-4DA9-B0D5-E6176185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419BC6-2BC5-44D3-B5DD-5E1B5C01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3C0BE5-765A-460A-805E-AFD82BF5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215478-2082-4386-AEE2-736949F5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1A3A18-D4B5-4BF6-AA9E-48EE1FA1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BF81A3-6730-43AB-9F7D-7B8F7E13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3235FE-1CD2-4B0D-BBDE-440170FB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7A7108-EE9C-4C82-860D-438CCADA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42ABBC-155E-4B07-A371-F522C845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5807A5-9BBE-4ABD-85B8-8C57F026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D2BD-5CA8-486F-82AB-AD0A7DAD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9666F7-8CAD-451C-97F3-62450D7A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966EC4-3424-45CE-8612-9E5B44A7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26F00A-F570-4BA8-B0EA-5F83254F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94CB70-A9AA-4A59-945A-242B2B2F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45EB11-A969-47E4-902A-CD225F93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46A2DE-BD64-4678-94A6-D890CE50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961326-79A6-4359-AF9D-199DAD4F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30116F-3208-4F63-9EA3-D0799C79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FE3824-5652-4A05-82B4-3BFD36C1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A5948B-83E1-4B63-A39E-20390F1C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94DE7-166B-4462-BC27-58503884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8953C9-E8E0-489C-BBB4-53A5CE24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88820A-1F87-42F8-BB88-28235D18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A20C96-2E11-479D-879B-C7B430A5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CF9E7-D563-4DCF-B9E9-AB9A096B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A969A-E221-4AD0-B50D-0B679F52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93F0E-BF42-4EBB-8D12-5B6AF03C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E6E53-A27C-48FE-A915-34CF6954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15C-C64D-4765-B115-3749696B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D73FD-DB37-41D6-BAC8-FC2E18B4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408B0-D2C5-4E17-9450-D04D7F8C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92E05-D01B-4DFD-98EF-250A30C6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9FDBE-569A-4888-8F7A-B7F29700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50625-943A-4D1D-ADE9-5A363E75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5F857-C1E7-43F0-8DEF-0DB05695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5F83E-F457-48CF-B132-F2480B9B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26B2B-FA91-4E36-BF98-3C1E7F0C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C48A7-C61D-4342-96F1-A2AA1E75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54106-3E96-4372-BAA3-BBCEC7FA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8ED-2BD2-4847-90D9-9AEADF80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EE01A-D989-4780-9B8A-86CB1600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C309A-F1CE-4319-A428-C81650FD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BC3C9-8ACF-4980-8659-0014EBB6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D53E4-71AC-453B-9B26-49FCD159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C2D19-2B10-420B-913E-7390567D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37862-5026-42AF-9327-39984673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7273B-BCB0-4108-A991-1D1D594A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FC35E-4604-465C-8735-BB049FF7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5BE46-11AE-4104-BA84-2D0EEC7D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B54D4-A521-494B-A91A-AB84579E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BA8-929F-44B7-A921-B977DF68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D6A38-690D-4EA9-8046-2128C464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A8CF5-66A7-4584-BB46-88C9A846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11865-C69A-423B-A3E7-9F8FD3F5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E24D7-A99A-4C62-B91E-A1428DDD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221CB-77B6-4AC5-9BB9-B571110F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FAB1F-F32D-4A50-9030-33C56C33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68BF1-62AB-42C8-813C-231AEAC0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60502-0D4C-4E47-80F7-86A199EB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FB7AE-20BD-4EEA-A913-70EDE678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6C406-2908-494A-A54A-F75C12E3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4B0-FDDF-4D3A-890F-9F2A6005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54E28-D36D-4F70-9727-206BC188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6458E-3B26-4E9D-B762-8B876ED2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C4743-A5D0-4887-A846-8574AB46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21DDD-4C4A-4960-BF66-F32DF252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9AD7B-EA1F-4C5B-BF5D-B2C4C247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112E0-5829-4756-B752-3BD917EC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18CA1-686F-418B-BC78-450DD668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5749F-9432-45C3-B375-CD9E3012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9419E-5D6B-45E5-AC83-15040937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DEADD-795C-404E-BE96-1161C430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E483-B509-4FB1-9B00-C903D2D6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4A2C2-C19B-4D53-83E3-B54F9890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B9866-53CF-45A2-84D6-B20F6819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45F4E-FDBA-46FE-A28D-DEEDFC3F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F5D41-358C-4DC3-B978-3E1FB595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18764-1E78-442B-85BE-E84C6296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72FC8-A639-464E-8530-595BB522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BF405-B2B7-47CA-A88D-727E6ECE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2650D-A50C-485D-A2AC-A2A42E16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A5F88-5B2C-47B7-AD02-F30ABD03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C1B7D-75E4-49F2-8C35-90BA0504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F78F-8E4F-4B0D-B203-B1878712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3BE2B-3C3A-4090-8576-EF647DDF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6FD75-5129-471F-8B98-E857D4F3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78F87-15B7-4EE3-A8FC-C3C414A0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2856A-B947-4981-967A-E5B73950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4445D-C2D5-47F3-9FE6-CF4D9EC6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584CD-8E3B-4C9E-8282-1171C658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330F1-71E4-4340-95ED-D75F0EED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1B625-0CE1-4222-893D-04C3E87C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3AB25-A500-4AAD-8362-57954E00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4EE2E-D5DD-4F9E-B586-39563427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ABD7-858F-4D98-941B-ED45427A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4EE74-A852-42DD-A986-AFEEC93C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C8727-8BA1-4341-BA80-0502FBE3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2D451-F7F5-4592-8E0A-0FECDDCC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441B8-0F8B-4014-B8DE-7616D55B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69402-4395-4441-9A0E-D452D781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EC62F-E480-493E-8DDD-DB8E18D6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C0650-82A8-4115-AE6D-DD25FD35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A397C-8A05-440A-98FB-0541F962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78FC0-020C-46F6-BDE2-1746E230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1015F-81AD-4A04-AC51-626EE124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A9DB-02DB-472B-B4D3-5A266094C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779E-E468-4539-ADD2-69845B49D8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E02B-3E1E-4DAC-876C-3DD286DD58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28BB-72E2-460B-AC28-95B976AEB2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95CA-DBE8-4638-B694-C80B953704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104E-D6CD-496E-B028-9A0D6FC2FD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B98F-FE47-4A96-8384-B99CE9610A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1D0F-7B24-4588-979A-9150137FB6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F8E9-CEA5-43DF-B5DF-65A26F4463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C081-21BC-41BC-8A7F-FB69942A27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B8A6-1854-4783-8E26-BA4F15EA42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E9F3-A694-4D3F-B2DC-778E4ADD58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99D8-EC12-48A9-8EF7-868E86DEDC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DF0D-1F29-4F82-B105-14493B5412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94A5-F973-4B69-AED9-6C29251118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DF46-A161-4827-B2F8-2CF87F868C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AE60-19B4-4511-B302-6FE4F5D312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AD55-4D13-45C5-A5C2-96885924D7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A059-19BD-4173-87DD-C6C410EA8C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B360-E676-4634-B899-20122A4B7B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5921-6676-4D24-A52D-DC1E081FF6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2DA3-66F5-40B7-8440-E1B63403A1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7BFE-CA1A-40AF-A314-4C9E87AF61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BABE-F956-4060-AB9F-1B47C5CE77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348C-0099-44F0-9A2D-2DF317C72C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0A4B-8C66-4BCD-90CB-0E25DFAEBD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D3E9-5302-44E3-84A5-04C5F0768B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FBA9-6A79-4E5E-859E-067A0491F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83F1-C8AB-4BD0-A2B8-A6EB0AFC14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861F-5D5D-4691-BE3E-99B06204FE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D6B6-BC49-40FB-8E3A-11234DD351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815D-4659-4903-8541-452DE3BDAD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7DCB-09C9-45D6-8F91-6910051B3A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577B-DDF4-423F-AD4C-C102D3D475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E9FE-247A-4CF2-9A44-27F1381991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6D55-4328-40A5-BABA-40E3399A62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CDD4-6CE8-4C01-B699-87C15DA482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F846-F652-4663-8A45-1EC8194C9E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B895-DB7B-4A3B-8F8C-81151CFF9C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4FE3-6EAF-40FC-A597-3FC8082988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57320" y="3191040"/>
            <a:ext cx="882792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209520" y="873000"/>
            <a:ext cx="8724960" cy="54007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476360" y="2133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547640" y="2708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476360" y="3213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4643280" y="1484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4643280" y="2205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1258920" y="42498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1258920" y="531504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38" name="组合 5124"/>
          <p:cNvGrpSpPr/>
          <p:nvPr/>
        </p:nvGrpSpPr>
        <p:grpSpPr>
          <a:xfrm>
            <a:off x="473040" y="844560"/>
            <a:ext cx="8199360" cy="5448240"/>
            <a:chOff x="473040" y="844560"/>
            <a:chExt cx="8199360" cy="5448240"/>
          </a:xfrm>
        </p:grpSpPr>
        <p:pic>
          <p:nvPicPr>
            <p:cNvPr id="1039" name="图片 1" descr=""/>
            <p:cNvPicPr/>
            <p:nvPr/>
          </p:nvPicPr>
          <p:blipFill>
            <a:blip r:embed="rId1"/>
            <a:stretch/>
          </p:blipFill>
          <p:spPr>
            <a:xfrm>
              <a:off x="473040" y="844560"/>
              <a:ext cx="8199360" cy="544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图片 5123" descr=""/>
            <p:cNvPicPr/>
            <p:nvPr/>
          </p:nvPicPr>
          <p:blipFill>
            <a:blip r:embed="rId2"/>
            <a:stretch/>
          </p:blipFill>
          <p:spPr>
            <a:xfrm>
              <a:off x="1090440" y="1446120"/>
              <a:ext cx="7467840" cy="475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椭圆 5125"/>
          <p:cNvSpPr/>
          <p:nvPr/>
        </p:nvSpPr>
        <p:spPr>
          <a:xfrm>
            <a:off x="5003640" y="1773360"/>
            <a:ext cx="1081080" cy="57600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椭圆 5126"/>
          <p:cNvSpPr/>
          <p:nvPr/>
        </p:nvSpPr>
        <p:spPr>
          <a:xfrm>
            <a:off x="6659640" y="2924280"/>
            <a:ext cx="1081080" cy="57600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椭圆 5127"/>
          <p:cNvSpPr/>
          <p:nvPr/>
        </p:nvSpPr>
        <p:spPr>
          <a:xfrm>
            <a:off x="4932360" y="4149720"/>
            <a:ext cx="108108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椭圆 5128"/>
          <p:cNvSpPr/>
          <p:nvPr/>
        </p:nvSpPr>
        <p:spPr>
          <a:xfrm>
            <a:off x="6877080" y="5373720"/>
            <a:ext cx="108108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244440" y="595440"/>
            <a:ext cx="8656560" cy="60753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1258920" y="12114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1258920" y="1773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1258920" y="2276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1258920" y="2795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1258920" y="335772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3:51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